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45E-C956-438B-9776-D4768FA3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D75-A22E-4A2C-A7E7-26FCF352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834-F337-4EBC-AE1E-1660A077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626-64AA-4702-9B11-7BD8AEBB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0EE2-0EC6-4977-ABB4-7AE63DAC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00E6-2080-4ECF-B704-703A55E4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A4B4-C1A5-48C4-8241-C46EF0B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14F1-3C23-45E0-BA30-73BCD444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B8FF-99D5-4E72-B104-0498529C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F99F-6884-4AB9-BC47-3122CD7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68E0-2B30-49C6-B2CB-B4AF70E6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7BC-0A73-48B3-A86B-4D3D17BF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E690-B6FA-45E7-94C8-C4C4E452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41FD-18ED-4A6B-83B4-0CB93848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B9D9-AF0C-450B-A3B1-0C3418F9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592-DBF9-488C-831C-82C69F0D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2449-DC5D-42D6-A693-52BBF1A0B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F3E-5256-445F-8BCA-2A9FB810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234-C637-4F69-8A17-25A8CB8A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218-86AC-4A14-B20F-29EBF0E5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8A8-8DD0-4C79-8EEF-DC5AE39B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21B-BE79-46F1-97F4-B603C1C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2735-A2E1-48DB-819B-91BCA9D8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20E-B48B-422C-A01F-DF07506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53DB-BEA6-4C66-A18E-556A79D3D7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Franklin Gothic Heavy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FD46-2A6D-4022-9596-DF6F5440E2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Franklin Gothic Heavy"/>
              </a:rPr>
              <a:t>Algebra 2A</a:t>
            </a:r>
            <a:endParaRPr b="0" lang="en-US" sz="50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2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Ordered Pairs and Rela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dered pair shows two related values, x and y in the following form (x, 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elation is a set of ordered pa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 {(1, 2), (2, 3), (9, 8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: a set of all the x values of a re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nge: a set of all the y values of a rel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unction is a set of ordered pairs (a relation) in which no two x values are ali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it a functio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(1, 2), (10, 20), (30, 20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(1, 2), (2, 3), (2, 4)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Vertical line test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vertical line meets the graph in two or more places, it is not a fun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3352680"/>
          <a:ext cx="434340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352680"/>
                    <a:ext cx="43434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Evaluating 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replaces y = when you are using fun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valuate functions, plug the value in the parentheses after f for 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f(2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Graphing 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445788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09480" y="2286000"/>
          <a:ext cx="1600200" cy="28195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Reading values from a graph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an 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aw a vertical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point of intersection with the line graph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y value equals f(x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f f(x) if x= -1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181480" y="1752480"/>
          <a:ext cx="3389400" cy="34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338940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V="1">
            <a:off x="6553080" y="1904760"/>
            <a:ext cx="0" cy="3276360"/>
          </a:xfrm>
          <a:prstGeom prst="line">
            <a:avLst/>
          </a:prstGeom>
          <a:ln w="50760">
            <a:solidFill>
              <a:srgbClr val="3399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Franklin Gothic Heavy"/>
              </a:rPr>
              <a:t>Operations on functions</a:t>
            </a:r>
            <a:endParaRPr b="0" lang="en-US" sz="4200" spc="-1" strike="noStrike">
              <a:solidFill>
                <a:srgbClr val="006633"/>
              </a:solidFill>
              <a:latin typeface="Franklin Gothic Heav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= x+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um of two function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+g)(x) = f(x) +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fference of two function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-g)(x) = f(x)-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duct of two fun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 * g)(x) = f(x) * 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quotient of two fun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÷ g)(x) = f(x) ÷ g(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22:35Z</dcterms:created>
  <dc:creator>nuhs</dc:creator>
  <dc:description/>
  <dc:language>en-US</dc:language>
  <cp:lastModifiedBy>nuhs</cp:lastModifiedBy>
  <dcterms:modified xsi:type="dcterms:W3CDTF">2007-09-12T19:11:18Z</dcterms:modified>
  <cp:revision>7</cp:revision>
  <dc:subject/>
  <dc:title>Algebra 2A</dc:title>
</cp:coreProperties>
</file>